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3AC-57D8-4346-8FF4-31B79FD1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FB5-8B8E-4D32-94FF-7B4C68D6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AF4-19E3-4378-95DD-D6C722A9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493-038F-41D5-B6FE-633E8075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AAA-8BC7-4A9A-BD48-159C915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356-EBCC-4170-B24E-C86C3AC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411-4ED8-42F3-A8F5-9C04557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37E-ABA4-4E2E-81F5-43EF0DF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DAC-3BDC-41ED-9345-851C90D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617-03FB-44B2-9271-1DC4F08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0E0-A9A3-4C14-A796-02E6E57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0A4-F05E-4E61-8572-17E0C68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158-7BCD-49F0-9E0B-59A86277B9A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2 Poznáš počet hviez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znáš počet hviezd, čo sviet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je tichá jasná n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z prenesmiernej diaľ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tujú nám Božiu mo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smír celý Pán Boh stvor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múdrosť sám doň vlož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siaľ tvoriť neprest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 Tvorca, nebies Krá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ieš, koľko živých tvor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ta ráno slnk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oľko hlasov Pána chvá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ým dychom zas a z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voriteľ náš milostiv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nad nimi, všetky živ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de jasot, samý ple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včera, tak aj d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ieš, z koľkých detských úst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ieseň chvály vesel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oľko detí každé rán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ku k nebu vysi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im zdravie, silu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 ich a požehn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aj teba má on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ú radosť chce ti d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9:12:52Z</dcterms:modified>
  <cp:revision>83</cp:revision>
  <dc:subject/>
  <dc:title>Je veľký náš Pán, on slávy je Kráľ Nech do všetkých strán  spev vrúcnych znie chvál.</dc:title>
</cp:coreProperties>
</file>